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ulnerabil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per access to data - controls not granular en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lid da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permitted to the wrong/too many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C8FD-BC70-4C8F-9F53-08032F7D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7B7-64F5-4824-BE7D-62A0647E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4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D73-4B64-4512-B138-48944831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12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12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AE0D-CDC6-4A27-A45D-F93054C6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ED2F-645E-43AA-8A17-E4D72989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07F-A68A-4F72-AE55-D90429A9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A4B-C265-4B15-ACFD-E6E51B05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BB0-D218-4C5D-8DDC-B6E6F8E5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74F8-FFE7-4564-8BDD-432C6BF1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F3CA-EC73-484D-A3D5-D540D709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4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3751-74F8-4DB2-B0B8-8BFB8F6E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2B4C-96F6-407F-A02B-119A64F2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BK REVIEW - August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7D0E-B977-4B05-BA75-ED5C172C3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666880" y="6303960"/>
            <a:ext cx="968400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siness Continuity Planning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e:  these are slides that were part of a CISSP prep course that I partly developed and taught while I was with Ernst and You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le these slides are da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ugust 1999 -  the core information is still relevant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act me w/ any questions or comm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n Rothke, CISSP  brothke@hotmail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FC89-DFBB-41BE-83D5-85B9633201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um and customary practice of responsible protection of assets that reflects a community or societal no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Dilig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udent management and execution of due c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783-C021-4E26-9DB0-AD760E85F4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Probl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tility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u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e/Smo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ural disasters (earthquakes, snow/hail/ice, lightning, hurrica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t/Humid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omagnetic ema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ile a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1204-D265-4E27-8B5D-048149C5A6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cent Disast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mb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2 London financial distri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3 World Trade Center, 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3 London financial distri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5 Oklahoma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thqu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9 San Franci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4 Los Ange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5 Kobe, J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5 Malden Mills, Lawrence, 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6 Credit Lyonnais, F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7 Iron Mountain Record Center, Brunswick, N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994-CC6E-4417-9D84-12FC8C32A8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cent Disast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2 AT&amp;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6 Orrville, 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9 East coast heat/drought browno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7 Midwest flo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2 Hurricane Andr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3 Northeast Blizz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6 Hurricanes Bertha, Fr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8 Florida torn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/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ar 2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F13-EFB2-4855-900E-D0F573D848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Probl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Utility fail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Intrud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Fire/Smok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Natural disasters (earthquakes, snow/hail/ice, lightning, hurrican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Heat/Humid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Electromagnetic eman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Hostile activ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Technology fail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to keep opera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tune 1000 stu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erage loss $78K, up to $500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5% failing over 1 week never reop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market share comm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427D-D980-46EC-9CFC-FDEB566ECA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Data Pro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rors &amp; omissions 5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e, water, electrical 2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honest employees 1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gruntled employees 1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sider threats 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B4E-0334-4520-8866-8911FEA6D1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ontro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st Privile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n 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ndan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ed up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ernate equi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ernate commun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ernate fac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ernate perso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ernate proced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D6D-212F-4F82-8684-908BA32A8E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Steps in a BCP - Initi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init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ecutive commitment and support MOST CRIT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iness case to obtai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l the need for DRP  (price vs benef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d and maintain aware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-going testing &amp;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down appr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ct planning, staff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cal support/responsi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D8B-5A0F-415B-991E-8DC6AC8469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Steps in a BCP - 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ct Assessment (Impact Analysis/Vulnerability Assessment/Current State Assessment/Risk Assessment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rpo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ris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business requirements for continu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ntify impact of potential thre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lance impact and countermeasure c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ablish recovery prior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3BBB-C250-4904-9AE9-61924DE8E3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enefi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es security objectives to organization 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fies how much to spend on security mea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long term planning guid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te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ding desig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W configu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l contr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eria for contingency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 poli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ction requir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ificant threa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ponsibil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A37A-F4BF-466E-BC4E-D0F6268729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blem - Reasons for B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ciples of B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ing B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te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inclu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tages of an inci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2D4-3EC9-45C0-9294-6ECED27BFC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Steps in a BCP - 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Assess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failure scenar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kelihood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 of failure (loss impact analy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llar los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itional operational expen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olation of contracts, regulatory requir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ss of competitive advantage, public confid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d maximum downtime (recovery time fram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te of los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critica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-loss curve char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9B6C-8F82-4DC0-AFC4-A443E0A2EB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Steps in a BCP - 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Assessment/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failure scenarios (risk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kelihood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 of failure, quantify impact of thre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d maximum dow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nual Loss Expecta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st case assum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business process model?  Or IT mode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critical functions and suppor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lance impact and countermeasure c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dam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keliho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339-6056-4695-994C-792E065A32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 event which could have an undesirable imp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ulner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r weakness of a risk-reducing safeguard, potential to allow a threat to occur with greater frequency, greater impact, or bo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easure of the magnitude of loss or impact on the value of the as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otential for harm or loss, including the degree of confidence of the estim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E9D8-BF8E-4DF1-A48E-55C93BC179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tative Risk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ntified estimates of impact, threat frequency, safeguard effectiveness and cost, and prob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werful aid to decision mak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icult to do in time and c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ative Risk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ally quantified estim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osure scale ranking estimat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in time and mone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compel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Analysis is performed as a continuum from fully qualitative to less than fully quantit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35DD-A4EF-416A-9CDC-FB6D45C58D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impact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 tim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sential business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n systems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mmended recovery priorities &amp; strate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stand economic &amp; operational imp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recovery time frame (business/DP/Networ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most appropriate strate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/justify recovery plan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lude BCP in normal decision making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488-7BC1-4B52-B8AF-B9B652D444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isk Management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-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P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Aud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wn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program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1E98-BDDC-4AC7-BF5E-D1FE6F5E11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eliminary Security Ex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t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t surv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o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W/S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tural disa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E08-62AA-445B-96D2-D5B81A4E95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eliminary Security Ex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t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t surv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ing security mea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C8F-C611-4F2C-85E9-7F5143E5E8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uthoriz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ility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tural disa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key perso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uman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ighborhood haz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mp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gruntled employe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an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per use of techn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tition of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cading of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1066680"/>
            <a:ext cx="40388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ogical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 of user needs (technical require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ability to control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ipment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orrect entry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ntration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ability to react quick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ability to substantiate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ntration of respon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roneous/falsifi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025-CDA8-471F-BA1D-C0E36E3A0E9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62481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controlled system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effective application 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ons procedural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fla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s system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ility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6B5F-4B07-4197-8F56-06A9EB02E5C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ntingency plan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lan for emergency response, backup operations, and post-disaster recovery maintained by an activity as a part of its security program that will ensure the availability of critical resources and facilitate the continuity of operations in an emergency situation…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ational Computer Security Center 198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7-98 survey &gt;35% of companies have no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3D6-29BB-47D3-89D0-D0A842C7F9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isk Analysis Step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62481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- Identify essential business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llar losses or added expen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act/legal/regulatory requir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ive advantage/market sh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views, questionnaires, worksho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- Establish recovery plan parame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oritize business fu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- Gather impact data/Threat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bability of occurrence, source of hel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 business fu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e support requir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 effects of disru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e maximum acceptable outage peri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 outage scenar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0FC-FF7B-4211-AD20-8A9794CCE84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isk Analysis Step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62481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- Analyze and summar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imate potential los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truction/theft of ass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ss of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ft of 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direct theft of ass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processing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ider periodic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ine potential loss &amp; prob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gnitude of risk is the ALE (Annual Loss Expectanc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uide to security measures and how much to spe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A67D-FC44-4998-9E13-F4252F580CD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62481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ificant threats &amp; prob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tical tasks &amp; loss potential by thr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edial mea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eatest net reduction in los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B8A-59FB-409B-B3AD-8E34B9A40A6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formation Valu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n has cost/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quire/develop/maint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wner/Custodian/User/Adversa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a cost/value estimate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/benefit analys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e security in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oid penal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erve proprietary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continu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rcumstances effect valuation tim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hical obligation to use justifiable tools/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90F9-A327-4E43-A409-157F94763CE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ditions of Valu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lusive poss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 of creation/recre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vertibility/negoti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onal imp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et fo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ficial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t opinion/apprai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lateral agreement/contr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A5E-A570-4DDE-908A-EAF9B4FD47D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pecific threat (potential event/act) in which assets are subject to lo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scenario for each major thre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dibility/functionality re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e current safegu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alize/Play 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pare find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CCBD-D1F8-4B9C-AFE7-7CE6ACAAB69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Steps in a BCP -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ategy Development (Alternative Sele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m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ategy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 effectiv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k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5A98-5C2B-4683-B914-6AAF5D6A1E0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Steps in a BCP - 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tion (Plan Developm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y resources needed for recove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 necessary advance arrang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tigate expos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EFD1-ADFA-40C8-8FAC-7A2B3E2950A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Steps in a BCP - 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Prevention/Miti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sk management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 - physical and information (acc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vironmental contr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ndancy - Backups/Recover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ournaling, Mirroring, Shadow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-line/near-line/off-l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u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ergency response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4583-97AF-4A3D-991D-2EC9CA4906C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Steps in a BCP - 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sion Ma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 effective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uman intervention requir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ual functions are weak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rides and defaul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utdown cap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ault to no ac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 open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st Privile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sible safegua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ra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ed vulnerabilities made attrac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6FF5-0151-4CAD-8E5A-6FBBF3FD95B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finitions of BC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aster Recove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iness Continuity Plan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-user Recovery Plan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ingency Plan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ergency Respon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sis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oal is to assist the organization/business to continue functioning even though normal operations are disrup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ludes steps to tak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fore a disrup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uring a disru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ter a disru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939C-2315-4B39-9595-47735862FE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Steps in a BCP - 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sion Ma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pendence of controller and sub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vers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rtmentalization, defense in dep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te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ru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p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stain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t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ount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4BCA-CB55-43E6-90CB-23A89BAEB78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medial Meas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er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ect barr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proced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y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gency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assignment (insuran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ckpi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accep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8ED-854F-4927-962C-5E3454B28E9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medial Meas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ction, sup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ction, equipment covers, pos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S, genera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u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housekee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up proced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response proced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D137-61A3-4BBE-A410-C31639FCE19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Steps in a BCP - 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y resources needed for recove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m-ba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overy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tigation ste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ing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pared by those who will carry them 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D37D-AFA7-495E-A363-ACDE96BDF63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luded in a BC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-site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p there - secure? Timel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layout of 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e prot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mate contr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 access contr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up pow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400D-1A8A-42B8-8497-2C704B7FDA9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luded in a BC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Off-site sto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ernate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t/Warm/Cold(Shell)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iprocal agreements/Multiple sites/Service burea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p there - secure? Timel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layout of 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e prot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mate contr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 access contr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up pow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re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10FA-EC02-4112-9891-67242474390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luded in a BC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Off-site sto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Alternate s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up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ti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ournaling - maintaining audit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ote journaling - to off-site lo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dowing - remote journaling and delayed mirro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rroring - maintaining realtime copy of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onic vaulting - bulk transfer of backup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2BF0-B81F-41C8-8454-6ADC7D9A8FE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luded in a BC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Off-site sto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Alternate s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Backup process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ti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i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ern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D3F-0C24-4D54-89A1-A54AC314156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luded in a BC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Off-site sto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Alternate s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Backup process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Communi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i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75F3-4C42-4A3A-9E47-B5D7D567EE1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luded in a BC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Off-site sto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Alternate s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Backup process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Communication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Work sp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fice equipment/supplies/docu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business processes/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ndors - Contact info, agre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ms - Contact info, transpor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to normal op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33C-74F0-42FB-A036-E7485FE797A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asons for BC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better to plan activities ahead of time rather than to react when the time c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active” rather than “Reactive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ke the correct actions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for experienced personnel to be abs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D7EB-372C-4C45-A919-FE08B15D97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mplic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/Police/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u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ting/Vandal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ty/Legal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es/Appro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0B82-754F-47F9-B4CE-4AA195CED7F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Steps in a BCP - Finall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s feasibility of recovery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ifies compatibility of backup fac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sures adequacy of team proced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es deficiencies in proced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s team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mechanism for maintaining/updating the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per management comf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230-2084-4DFE-961D-092E79EB290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Steps in a BCP - Finall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k checks/Check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uctured Walkthroug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fe exercises/Simul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iodic off-site recovery tests/Parall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ll interruption dr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67B-7A3D-40BD-9122-F4E7EAB50A2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Steps in a BCP - Finall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o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ur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lies/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ernate site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2884-3B1C-4E52-9FDB-F51331D3002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Steps in a BCP - Finall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rpose (scenari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ives/Assum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cipa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ign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843-6282-4D53-B0D0-4F7105EA514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Steps in a BCP - Finall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ernate Site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vate emergency control ce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&amp; mobilize perso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vend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ckup and trans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p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pl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 (Cold and Warm sit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if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ut down/Clean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ument/Re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1B15-5E54-4E7C-A55F-07D6A9CFCA9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Steps in a BCP - Finall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Update and Retest cycle (Plan Maintenan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to maintain validity and usability of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vironmental chan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W/SW/FW chan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son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s to be included in organization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ob description/expec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sonnel evalu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dit work pla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E3F-75DC-4F2D-9A73-7620B07B7F2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CP by Sta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state assess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 support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ct Assess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ernative se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 Pla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services continuity pla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plan consoli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ing strategy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 transition transition pla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1368-8777-4D66-8F18-551225CC14E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CP by Sta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tion plan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H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tion, testing,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9F6E-06E9-4D7E-B85B-B064CD52019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d User Plann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P is critical to end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manual proced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 is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pl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ual proced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overy of data/transa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es for alternate site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es to return to norm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7AF1-D607-4CE5-9209-BBEC1DBB7F8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asons for BC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better to plan activities ahead of time rather than to react when the time c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active” rather than “Reactiv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business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ves time, mistakes, stress an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he money coming 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and long term loss of busi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necessary materials, equipment, information on h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ning can take up to 3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6516-04EF-4A51-86F7-0496818709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Real Worl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 plans normally invol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sential DP platforms/systems on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anual on the shelf written 2-3 years a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tle or no user involv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provision for business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active te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 lists and contact information that do not match current rea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50EE-5C92-455F-8C6A-CEA6CC1E0BB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ages in an Incid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ion affecting user operations significa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21A-1E4C-41B6-8A3C-4AFCD1ED9E7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ages in an Incid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/Emergency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rpo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sure safety of peo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vent further dam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vate emergency response t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vers emergency procedures for expected haz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fety essent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ergency suppl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sis Management plan - decision mak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1B1-1A54-4BF1-9182-ABB60C35D15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ages in an Incid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ct assess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vate assessment t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situ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is affecte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e whether to activate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8081-4430-48AE-9D5A-9F944AC1463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ages in an Incid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ct assess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l recovery of key areas at alternate 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ailed proced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lvage/repair - Clean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68A9-A46D-4286-8CDF-EE1374A00CF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ages in an Incid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ct assess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to normal/Business resum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to operation at normal 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ergency” is not over until you are back to norm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s just as much planning - Parallel op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930-E2A3-4CFB-A4D9-EBDD1435AEF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ecial Ca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2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idents will happen in a particular time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ernate sites won’t hel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ndant equipment won’t hel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ups won’t hel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olves automated equipment and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473-B364-405D-A98C-92F3D3F52ED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nal Though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you really want to activate a DR/BCP pla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v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7396-F983-4743-B563-9A152852DC2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asons for BC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better to plan activities ahead of time rather than to react when the time c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active” rather than “Reactiv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business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eep the money coming 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rt and long term loss of busin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n 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im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li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EBE2-AE8C-40D6-8A0D-56F640D36F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asons for BC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better to plan activities ahead of time rather than to react when the time c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active” rather than “Reactiv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business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eep the money coming 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rt and long term loss of busin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n 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7 Foreign Corrupt Practices Act/protection of stock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agement criminally li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C2E6-4D48-4A4A-A5C1-4D07C33FE3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asons for BC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better to plan activities ahead of time rather than to react when the time c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active” rather than “Reactiv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business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eep the money coming 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rt and long term loss of busin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n 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7 Foreign Corrupt Practices Act/protection of stock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deral Financial Institutions Examination Council (FFIE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CPA SAS30 Audit Stand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ense Investigative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gal and Regulatory sanctions, civil su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8467-1781-49C7-9DE8-D96DF2ECD4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13:11:32Z</dcterms:created>
  <dc:creator>brothke@hotmail.com</dc:creator>
  <dc:description/>
  <dc:language>en-US</dc:language>
  <cp:lastModifiedBy>BRothke</cp:lastModifiedBy>
  <dcterms:modified xsi:type="dcterms:W3CDTF">2003-06-12T14:44:12Z</dcterms:modified>
  <cp:revision>63</cp:revision>
  <dc:subject/>
  <dc:title>Business Continuity Planning </dc:title>
</cp:coreProperties>
</file>